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E6B1-3FC8-410C-81A0-5FFF9B097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2B67-147F-4B3C-AC28-F670E071A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BC0-8479-4998-A5C1-3BDC8B66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4A0-23F5-4777-8BDE-C63B12A0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6E7-29BD-4EB1-AFEC-AE857E99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164-630F-4D9B-A487-760CBF49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7E15-3F06-4870-B22C-F97F9D01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9A42-3D2C-4124-B02F-6C96E862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AC28-1E53-49D2-92AC-4D378846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361A-8C51-4CAC-99E6-54D654B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16CA-A3D2-4C11-9AF4-7D4B7B47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FE5-350C-41E4-BBEE-5BFD8116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677E-77A9-4D5C-AEB9-5485BAC1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CEB-ADC2-4B00-938D-4172564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7328-B44B-47B3-B5C3-46007ECC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CA81-9F3B-4C46-9BC0-0CF3DBA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168B-F0B7-4385-B4EC-528DB3F9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E5D2-9A87-44EF-A62D-7C03A5D8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6440-7AED-47C1-AC76-86B4726A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FD7-C3C7-4BC9-8C8E-7F8B1A10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217-3C2A-485A-958A-E9308E5C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613-E08B-4D8A-B76C-272A6842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813-3BFF-473A-99FA-5549F28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8C9-AE78-4BF8-836F-7E0C5346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790-9BA6-420B-8602-CD764DE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0F8-2DB4-4B1F-AFF4-AB49B93B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F3B5-FAFF-40E5-A829-E27B74047C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7BC2-4C4C-4E8D-9951-5F8279E384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ФИЗИЧЕСКОЙ КУЛЬТУРЫ И СПОРТА КРАСНОДАРСКОГО КРАЯ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КРАСНОДАРСКОГО КРАЯ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ГБУ КК «ЦЕНТР РАЗВИТИЯ ЛЕГКОЙ АТЛЕТИКИ»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바탕"/>
              </a:rPr>
              <a:t>Второй этап VII летней Спартакиады учащихся России  2015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바탕"/>
              </a:rPr>
              <a:t>легкая атлетика (ЮФО, С-КФ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3-04.07.2015 г.                                                   г. Красн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Второй этап VII летней Спартакиады учащихся России  2015 года </a:t>
            </a: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легкая атлетика (ЮФО, С-КФО)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03-04.07.2015 г.                                                                                 г. Краснодар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1773360"/>
          <a:ext cx="8064360" cy="4189320"/>
        </p:xfrm>
        <a:graphic>
          <a:graphicData uri="http://schemas.openxmlformats.org/drawingml/2006/table">
            <a:tbl>
              <a:tblPr/>
              <a:tblGrid>
                <a:gridCol w="2439720"/>
                <a:gridCol w="2352960"/>
                <a:gridCol w="1141200"/>
                <a:gridCol w="2130480"/>
              </a:tblGrid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ия 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лина Шемяк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оломи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дим 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горизонт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онид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вертик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Аксе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ое обеспеч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дмила Кузнец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лёгкая атлетика Федерация</cp:lastModifiedBy>
  <cp:lastPrinted>2015-07-06T08:20:31Z</cp:lastPrinted>
  <dcterms:modified xsi:type="dcterms:W3CDTF">2015-07-06T08:20:35Z</dcterms:modified>
  <cp:revision>47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